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B58A-1CA8-47CC-8C3D-440F7549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7401-E240-4BBC-8FBA-247207DD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46D-37DF-4171-BF1C-ABCCD461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DEFF-C244-4EB7-AAF7-7B7854D3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2A19-D72F-495B-B50A-A9429869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8081-6AEF-4DA7-B84E-767F1174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C38-F164-4BC7-85E6-8AA7FF5E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0344-D16F-42FE-A263-E381EE26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193-8E8C-45D6-AFA7-6998C359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43A6-6C47-43D1-BA5C-CB7FBF7A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C176-B77E-43A9-A0DA-8B3FC542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3E5-C53D-4418-9F16-ABAF9A98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F254-3252-4DEE-A72A-9668002868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b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wso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’Connell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to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so Vittorio Emmanu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so Euro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n Duo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ulevard Victor Hu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e Lamar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enue Jean-Medec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09:57:24Z</dcterms:created>
  <dc:creator/>
  <dc:description/>
  <dc:language>en-US</dc:language>
  <cp:lastModifiedBy>User</cp:lastModifiedBy>
  <dcterms:modified xsi:type="dcterms:W3CDTF">2003-10-21T12:08:16Z</dcterms:modified>
  <cp:revision>7</cp:revision>
  <dc:subject/>
  <dc:title>Dublin</dc:title>
</cp:coreProperties>
</file>